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65D-1176-4197-83B1-5816D428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6ED-B0A9-49F7-BE33-43974898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9293E1-DD14-40B6-B642-8EA86879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4AC98-B3EC-4501-AE51-A8B8D8CF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CB80F2-C132-424A-92AB-D5B0459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1DB2E1-586C-4794-8708-0B1BAD7B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DF052-0994-4AB5-84FE-785E5B42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F260F4-AA37-46C9-B1D0-F553C82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319A9-EE60-4BB3-A7AE-BB1E3FA9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1F13F-0090-418F-9D6E-B48466F3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88DEB-6AF6-4CB2-865B-650633AD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01D0A-2626-4530-90DE-1C1C8370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299-576D-4CE3-BA59-C52FF2AF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92FB9-3D17-4320-824A-20041FA0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C2A667-500E-4044-80FC-89E10B14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862EB4-F994-41D6-83B7-AA1251F9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A0BCF5-5EA3-4B09-8BC5-9C377973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73DE0-483F-44CC-8AC8-33AF41DE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4AD16-9197-4A4B-BFDC-F159AFD6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AF010-72DB-4CAC-92B8-80D0947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23AD6-4DC4-4822-8B12-2E0F4B17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CC20E-9DF7-402E-95DB-B1910C03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708CD-BF32-4400-94C2-8832F59B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3C6-4B93-445D-A999-2D0F859E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A92567-7605-4206-B5EC-502D7C78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24E59-BC7C-413B-8D9D-1629CD7D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1CA84-75D3-47DA-9976-EA8B006A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D685F-EA78-4FD4-A127-24C9E97B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C3018-8C09-4D79-8F47-863B8DE7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169CF-D0B2-4160-9668-417B0DE4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51C48-F5C7-4285-9476-A42B16EF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6F208-4738-425F-AAA3-9082934C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F438B-F5A4-4014-81EE-FDC6A5BD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9FF66-D06E-40C1-9514-2F66D092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0BC8-3EB4-4795-AEBD-7CAD1C94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41C19-313C-41B2-8BB5-6195DC7E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20E2B-68C1-4A4E-B564-7A5D1D1D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46D6F-F30D-40EE-ABEC-2BA392A9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1F7BE-3C2D-43EC-A84F-4B7E056E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301C5-53EA-4561-A903-725D3891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A384B-6157-4887-AB76-5CA55D55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266700-7EA8-41A8-9148-CE83AAB2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ABC22-D94D-4CED-B96D-E04E2FB4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0BE23A-C293-42D9-8FF6-0BFEA173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9D137-81A2-4DA4-AB72-7B52CEE4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535D-C819-421F-805D-9D3B22A9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3E011-A6DE-4DF6-B0BD-2B0B9722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72A86-0660-4FBA-B726-F31E06A3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EC09F-64B6-4E7A-A2FC-81D5A665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2D373-8755-4DD9-8FED-9ABC3567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9C847-879A-4AA7-83E2-16080D4A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6BD4-8044-40D0-8841-4BC4844A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8A11-5B5A-4BF8-8869-5314A721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9399-2813-4F50-9365-D65E1CD5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3640-760E-4701-9741-76B7D475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9C19-726F-48B7-8733-40371730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164-6CA6-4739-9762-D822F7D6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6D6B-9C13-4F40-A94A-3A22190E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3AF3-4912-464C-B291-74884B97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EFC0-FF76-45D3-A221-CB880C29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56CE-F636-4E90-AF68-52E1535D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CF32-7AF1-4422-B6D8-C9E4C36E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463B-DD7F-4730-B105-35F4244C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922A-609B-45E0-B523-D472712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A931-DF49-4F90-8D0F-D099F1C4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4DF95-1058-420F-9611-B7A4643E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0C11-431A-4C3B-B4C6-0F7B50DD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C7F-821C-4045-8E08-D165C7E9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D24C-1D00-48E4-B69E-D89BBB3A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9E311-9803-4592-9AB9-439B4A9F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1F47-8A64-4283-943D-7DD5C4FB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BE54-BC20-44D7-9678-9D1D59C5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A342F-0062-4711-8EFA-95C81EC2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805F-2468-47A8-813D-277D2FD2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007EE-DD9F-4A2D-8875-3D950E89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8F0A4-B0BF-4006-ACEF-C5FAEB97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E4F85-62CE-494F-AA52-045F6999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34A25-C5D9-48C6-BA20-CD419B33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0D0-B1AA-4AB8-ABD9-15560488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FDB2F-0EA0-4CBD-B875-55E6958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D5E5-7CCE-4C18-802E-C0706EA4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6221E-7AFC-46B1-8894-06D28B85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803F-625E-4745-8D68-BB25259A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68B7-C173-479A-AA26-322213B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FF629-505E-4F8C-B2C4-0DF5AEA3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E76C9-7F06-4261-A4EF-B96FBBE1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DEC9E-1229-4F71-AA22-515213F1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6F399-A82C-4369-BEA1-A27D9BE1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F6C54-F3A1-4527-91B1-F61C0A91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5D7-53E3-46AC-AF4A-0B4E439D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93AA-8A9F-4DC6-B209-A7325FA6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65677-5B92-4CD8-9D5D-73EF5522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716B0-40A0-4713-A7AA-AF55E52B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01EEB-C3A0-4C6C-9E6B-9BF05E85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DC995-9EEF-4D46-A354-BA55AAEE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DBEE8-84B0-4047-AC63-6BF02B9D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F9A81-CECC-4BFA-9A75-6547B78B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F1057-899B-4CDD-9D66-F68347C2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FCE1E-A3E8-4463-98B4-BB032D88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42353-C558-48DE-81A9-D608F7CD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DF8-00E1-4C1E-9854-A6410C55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EB83F-4121-4166-B333-0F07C980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DE88F-BA10-4991-B05C-894A99CC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165AD-2880-4707-9113-061C6FA3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1DF2E-073C-4F4A-A465-0FBDD1E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BE6E9-44A1-4A5F-AE15-1ED9B740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B13E5-F9F9-4720-B148-11A844C5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5FC9D-84B0-429A-8222-72A0F45E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F4707-1812-4EA4-9315-3D2C02CC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C0BC-FDD0-433D-A2E1-AD29EEC4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4A2F3-1883-4B4D-86D6-98ECFC69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004-F07A-4C90-A72E-510F1B83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8B0BA-0F53-4975-BF82-CEFC927E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8BA03-078B-48D6-95AE-49181985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C60AA-7F23-4C06-9FB6-DC6C29EF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368D5-81BE-498A-AC5E-36B66181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E68A7-AD0F-4B90-B0C1-3FE4643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DB1DA-7FD6-4A13-ACE9-4C6A1F22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8590C-051E-41A9-B665-F988E634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FCD3-9081-4DD9-9D43-A60E048E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BB220-3731-4B28-9D0E-29AF9A43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6C7E0-5993-44FF-8636-60F2930E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0E8-E200-454A-90D0-7A442409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6BB5F-ED7B-4FBF-AEF8-318F415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AEE17-4AA3-4AFD-82D1-F0C86200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5EE0D-0D3D-45E6-AA63-474D3846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AD3B0-6B43-420C-9AD2-91A884C7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C9097-4B40-4EDC-ADB9-24A489E0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40DD-F6C6-4519-ABCF-2D8FD240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7F4D9-4F2B-49A2-8D46-46813DEC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9B036-B7DE-4C71-A6FF-93D3A006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B19E1-703E-45D3-8E70-B253A3AF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0750F-3D1E-454E-803D-BA20947D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D16-0FA3-401D-BB2F-A8E48589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D58F1-CFD8-445B-B223-96F8446E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5B615-D5EE-4AC5-A61B-D60ECBED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8C73D-7B0C-4FFC-B660-576BD1F6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93CB8-63F5-4918-8822-1BB5357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932AC-8205-4623-BBCF-8FE25B7C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5BD75-2DDB-4C56-ABCA-6AD78429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58023-0048-4552-B424-BEEF02DA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A46B3-563A-4959-92D2-71A0ACFD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20B73-0C6D-468A-9461-0071B1E1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1562D-62D7-4EA2-BFB5-C58CDDEE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309DE-B5E6-47EB-8D31-0D47083243A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986DE-F5FF-4A2E-8AD7-107BFA072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EBA20-2CB7-4C8C-ADBB-9D99137C1B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31C1D-9D42-4485-8744-56DB6DCFFAE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14196-AD82-459C-8C5C-F4CC1AC98D8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87B35-6FB4-46D4-B9C9-B1143E143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64170-3E2B-4703-AD16-3C0822C99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33B2A2-E6E9-4B24-B9DA-D8A1ECE72A9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89A3F-A229-4F57-ACBA-7E62699FE93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A625E-F3CC-4A27-A3F3-3C58F9081D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5D204-9EE8-4B35-85FE-3DD6186251B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93A49-BF6A-40B4-8779-81615BA24F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FEE8F-AE41-46AA-B63D-7C5404676FA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F216B-23DF-426B-B987-16D63A476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B1A3F-C7D9-4CA6-8107-0F559041EE5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636DF-1D16-4E4A-98E8-E7CE4F5F11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8D478-8E29-48D2-8F64-195B30ED5B8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742D3-3F04-410C-927A-4D75B102A7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61B84-66D9-4406-A6A8-6E00B7C3DA6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4B560-1DCC-4DFF-A7B3-14A1E7FCD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53D05-91B1-4669-ADCA-5751873C114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5F426-CF1A-4788-9D5B-19D6F7BF98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6C678-0720-4297-A615-0BC3DFD9CE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06926-A118-4E35-947F-2095ECD3F1B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YONGMIN AND JAS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How to Punctuate Titl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unctuation marks for ‘Little Things’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ellow Wallpaper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nday Morning” by Wallace Steve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ed Wheel barrow”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unctuation marks for ‘Little Things’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hort stor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ski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commercia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 individual episode in a TV series (like "The Soup Nazi" on </a:t>
            </a:r>
            <a:r>
              <a:rPr b="0" i="1" lang="en-US" sz="2500" spc="-1" strike="noStrike">
                <a:solidFill>
                  <a:srgbClr val="000000"/>
                </a:solidFill>
                <a:latin typeface="Georgia"/>
              </a:rPr>
              <a:t>Seinfeld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cartoon episode, like "Trouble With Dogs"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chapt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 articl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newspaper stor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About Capitalizati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u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capitalize the first and last wo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pitalize all nouns, pronouns, adjectives, verbs, adverbs, and subordinate conj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case all articles, coordinate conjunctions ("and", "or", "nor"), and prepositions regardless of length, when they are other than the first or last wo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case the "to" in an infini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fusing 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y Travels up Nova Scotia's South Shor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(correct; "up" is functioning as a preposition and should be lowercased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ringing in the Sheav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(wrong; "in" is functioning as an adverb and should be capitalized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talicize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The Yellow Wallpap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) The Rime of the Ancient Marin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) Pirates of the Caribbean: The Black Pear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Obama Administration Pulls through with Health Care Pl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talicize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The Yellow Wallpap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) The Rime of the Ancient Marin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c) Pirates of the Caribbean: The Black Pear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Obama Administration Pulls through with Health Care Pl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n Quotation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uns, Germs, and Ste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nderers of the Valle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iderman 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na Li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n Quotation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uns, Germs, and Ste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Wanderers of the Valle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iderman 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na Li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ick the title with capitalization problem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Heart of Darknes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he Things They carri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Spongebob Squarepant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‘Why is North Korea shutting out the South?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ick the title with capitalization problem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Heart of Darknes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b)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The Things They carri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Spongebob Squarepant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‘Why is North Korea shutting out the South?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talicize Big Titles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he Heart of Darkness (nove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Frankenstein (novel/film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he Sweet Escape (Gwen Stefani’s album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talicize Big Titles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novel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ship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pla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film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painting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sculpture or statu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drawing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C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TV Seri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cartoon seri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n encyclopedi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magazin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newspap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pamphlet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2:04:39Z</dcterms:created>
  <dc:creator>macadmin</dc:creator>
  <dc:description/>
  <dc:language>en-US</dc:language>
  <cp:lastModifiedBy>macadmin</cp:lastModifiedBy>
  <dcterms:modified xsi:type="dcterms:W3CDTF">2009-11-11T14:51:46Z</dcterms:modified>
  <cp:revision>11</cp:revision>
  <dc:subject/>
  <dc:title>How to Punctuate Titles</dc:title>
</cp:coreProperties>
</file>