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D9C-58B3-4B13-8EB2-6CCE70F4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D57-0494-48F1-91A2-4EBC0043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C06DA5-FEE2-42AB-9D64-76437712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B392F-4340-442D-9D03-57D022F8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92C47-EBE0-444F-BD7B-9056ED11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C5F48-ECF4-42D9-8EB6-DDE1FDE6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9EC44-75DB-42E8-8454-F448062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954FC-A947-455A-8CF6-F7F64E0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5F43E-B918-41BC-91B9-5DFE6201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4943A-9BCD-4DF9-994E-7F52F141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BAD28-4870-447E-8AAB-B25BF9BF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76CB0-CA9B-4DDA-BDEF-26DECB79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70C-9790-4ECD-BC1C-8CF02E93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34DCB-CF98-42EB-A4BF-83161F83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18461-1601-4463-A49E-0D85EB48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71DF0-98F9-4889-9121-45C0B124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65396-4ED3-419A-A320-977F0A56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8CFE6-3214-449B-B379-FEBA5B6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3E5E2-696E-473E-8A03-5B7F7FD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61A97-4865-43E9-AE3C-C8B2F862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37FAF-1983-4D1A-BBFB-2A27850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8FD6B-A941-47AF-BB5D-CAEEBC42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8FA5C-311B-4676-8AD3-99E10E2E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7BD-9E43-4370-8B51-BAC584BF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BC36A-951F-4A3C-BE83-7ADDBA33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355A6-E9FB-4C86-9933-A7EBAFB6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CF69-02F7-4102-9194-8D82D6C5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A3CE5-8584-4E13-81D0-7587EC03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BAE47-DF2F-4E0E-8AD1-EA9F169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0416D-0311-4148-A78D-6AC376FD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4236B-CB86-4407-934E-A2DFC20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9F4FD-6694-40B0-8A06-0FE7FC3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83C1F-1E34-44BB-93C7-5623F5BB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CF94A-B71E-4369-9A0D-A199CF86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85A4-1157-4796-8D8C-CC6C9EF6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5E052-223B-46C0-8592-5427A04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C6E8F-B676-4FF0-920D-6E0A7FB8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7AD36-B614-4A17-AF5A-B132F28A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3DF50-6D70-43CB-9EB4-3BFFCB7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C9A1C-166C-4D4D-A4E5-87160868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41CDB8-D761-4B48-8F4C-C5DDEA96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F782C-6717-418B-9053-FB74B07B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E96BB-919E-4A4A-9325-63FF509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77967-3F82-4192-B085-A5730193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86255-1AAC-47CA-A1E5-14682BF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1EEA-5E5B-4B97-B7A1-96B9EB2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D3AA3-73AF-4BAE-8393-D638C1D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FF4CA-32BE-40C3-A786-1FEF6EA3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0DEE9-670A-4A3C-AC6F-92D41899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37963D-4680-45B5-93F3-91D65661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0569F2-20B9-4570-8590-315107DB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5AA1-F1F5-4D11-BA77-45B8176C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9E0E-3660-4056-A725-05F8CB55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ABB-4240-4ABE-8FA3-333AFAF9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DAB0-EA4B-410E-B1E8-7BE85819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6406-9358-45B5-8E60-E3711F3A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098-08D4-4268-B96A-0F5F89F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51CE-CE73-4EA3-B3F6-260F32E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C754-4C25-4472-9853-06AA2E7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C3BE-915F-4855-B583-251CAB17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83B2-E6B0-413D-88F7-594EB386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2731-23CB-4592-89B3-4A4F17A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2769-F7B4-4CBD-9A90-EF2F88D4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DFF6-5D15-4234-9BBD-C97794C9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2385-49B2-4EB9-A156-DD01CA65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C135-E837-40B2-9DB4-263B5E2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3B5A-7EEF-487D-BC85-45801307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1A9-5271-4BE4-889E-84518BDB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3931F-A73F-49FD-8255-5CCD18E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71E0-7E71-41FC-B26C-9C6E7209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1C61-2BE8-4727-86E0-6B795BB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8E90-3447-4C95-88F0-C33B66C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084A-7E90-40C3-8167-FB0864DB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908B5-4F38-47F1-B4A4-CC34FD5E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3FE21-B8F0-47A5-8709-40BC23B2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ADA1-EC0F-42AE-B3B9-B0CB8D88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7DFF-136A-4C14-B11A-BE444EDA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0553-6EDA-4649-A09A-A599CA76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4F5-AB3F-4D1F-BBB2-3569A000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9CED-7096-4EDD-935D-A74934B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3D68-E5C1-4414-93C5-CEA30B2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D340-9AEC-479D-B992-DF5E0BCB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D685-11E6-4452-8290-FAFBD0C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3592-9E8B-4752-89AC-25BECA5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2D23-F893-41BC-B357-BE189D88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D15D-D5BE-49E7-9EB6-0BA43B4A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BF69-DFEF-4B04-B930-C111A643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6B9F-1667-45DE-BC00-0A23FCB5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6C24-6E6B-4273-958D-4682F77D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9CC-D731-40EE-9EE1-F5930F3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E89FA-AF4C-475C-95DA-B994E4B9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840F-28C7-4C17-973C-41E477B0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EC5D-D99D-4C95-8E65-1CD1E057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FC5B-7E3B-4D17-B702-BA9785AB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3D8B-9109-473B-AFAB-C5F504BE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F4E6-C5DE-4752-9D93-9B1BE309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C9FDD-3BA7-4FE7-9C00-62609A3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FF223-4582-4EA8-831C-12BAC49C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18FD2-FCC9-42C4-AF02-18EF2685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6F91-D4F8-46F6-80D1-7DEE2AEB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91EA-590A-4AE9-B679-15243420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4B492-01CC-4F00-AD83-52516EF7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0956-E5AA-4942-BF79-D8D6A1D6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B2FD-FF37-40BB-B1DB-8D72303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7811D-6375-4A94-868C-116D63B2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02120-F739-499E-BABA-5BDD32EE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89CA-CF5D-4F8F-90E5-F495427F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31CD3-9BA1-4EE9-9CDC-908441C6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F6D34-B71A-415C-9718-03D8F1A8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5117B-8CBD-4435-B7B4-EEC4B776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ECD3-7B6A-4C91-8A78-7D93AE5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522-E3B6-4207-A319-1E1ED8F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3357-2E8E-4F41-A410-BAC9AE24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CE538-7BCC-4ABE-93F2-4857CB47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17FD-8EF3-4F78-A5FA-D08E1908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544F4-CCF2-4D46-9384-8EA7D4D9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6925A-601C-4ADA-83A3-49F6936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B4C3-73B0-415F-B711-5C002A37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9DB9-0BB6-4323-994C-0E765600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EAF9-14A1-4CFC-A8E0-AE765E0C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A19F0-026C-4B9F-A447-C03DDD3F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0821A-2A1E-4D31-A280-482E377C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F56-C41B-42FD-A17B-55A1086A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EFE7E-5794-46D2-945B-868DFEA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35EF8-4F04-4C22-BA26-25D7A271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A424F-FF8B-4A82-A8C7-4E9F7A1A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940E0-68AE-4F98-8D52-3B4297C3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EB0A-14FF-47A1-BDE5-C100BC8A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B317-93C7-4A36-99AB-C702901F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03E13-F27B-4C1F-B1C5-9A5A3295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DE04-04A8-42EB-8839-500D8122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7748-F765-4693-A82E-80D7688F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3A354-5567-408F-AEB9-7E6367FE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C91-49BE-457B-8544-7B035F4D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8CC90-BA29-48A2-BAB3-7051B737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13DE0-6C83-40B1-BCED-1205950B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4A3A-5318-4734-9181-6F558B65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9B0FE-32A9-4DE0-AA05-8437460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5A6D-290E-4755-9024-8305D4EF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99950-6A25-43BE-AFB6-7A4AFDD1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251C9-5D84-4CB9-BAF2-53C34640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436248-0242-4FE8-B426-CBDDFDDE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30944-5CEC-4938-BA98-7358C040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EFEC2-B7EE-44A8-A87D-8F064EF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D46EB-2472-4EA9-A30F-D266E082E9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2F03C0-F043-488E-998F-5CFC1AA4D7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D4EEA-4083-4A2B-AE46-162DDB7DD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1BDF8-3112-4A01-880B-3EB7120FA7F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1EAAA-85A6-45B3-90FC-93A43087F7C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1661A-083B-44AE-86ED-1D9683B7E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9480C-0CF8-427E-97F3-2239CE2D6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23AF5-38AB-401A-A6AC-7EED2F7F4FC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75CB7-FBD1-458A-A830-D8FBA729606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B6457-E6C6-49BA-870A-C9B55C0BA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77470-FE12-4548-B557-6821A48C5C3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9218A-7948-4D6A-AF6D-C612B65BFD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47B3A-1C20-4215-BCEA-E551C839A06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28FF1-91D7-4B66-92A3-B250DEC7E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1404E-1768-4E83-9DCC-8A73D4DA38C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D28F6-9B41-4ABF-961D-9B8F2ABA0B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916DD-40E0-4ABA-9AC0-742BE0B43F7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5122A-7B80-4CAF-A03B-26C30EF47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104A1-CC37-4151-B3E6-6BE7075A60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0BC17-6D2C-47AC-8156-8BE4FF59BE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F3483-5A97-47CE-B7C1-179FE66622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A3F44-5628-4F1C-A779-E21E578ABB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DF4A3-62A3-466E-9AFC-33D3BB3B1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2BD05-E065-4D1D-AD47-A6BEECB0DA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YONGMIN AND JAS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How to Punctuate Titl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nctuation marks for ‘Little Things’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ellow Wallpaper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nday Morning” by Wallace Steve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d Wheel barrow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nctuation marks for ‘Little Things’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hort sto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ski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ommercia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 individual episode in a TV series (like "The Soup Nazi" on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Seinfel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artoon episode, like "Trouble With Dog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hapt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 articl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newspaper sto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About Capitalizat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u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capitalize the first and last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italize all nouns, pronouns, adjectives, verbs, adverbs, and subordinate conj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case all articles, coordinate conjunctions ("and", "or", "nor"), and prepositions regardless of length, when they are other than the first or last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case the "to" in an infin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using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y Travels up Nova Scotia's South Shor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correct; "up" is functioning as a preposition and should be lowercase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inging in the Sheav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wrong; "in" is functioning as an adverb and should be capitalize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taliciz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The Yellow Wallpap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The Rime of the Ancient Marin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Pirates of the Caribbean: The Black Pear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Obama Administration Pulls through with Health Care Pl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taliciz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The Yellow Wallpap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The Rime of the Ancient Marin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c) Pirates of the Caribbean: The Black Pear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Obama Administration Pulls through with Health Care Pl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n Quotation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ns, Germs, and Ste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nderers of the Vall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iderma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a Li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n Quotation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ns, Germs, and Ste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Wanderers of the Vall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iderma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a Li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ick the title with capitalization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Heart of Darknes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Things They carri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ongebob Squarepant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‘Why is North Korea shutting out the South?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ick the title with capitalization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Heart of Darknes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b)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The Things They carri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ongebob Squarepant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‘Why is North Korea shutting out the South?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talicize Big Titles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Heart of Darkness (nove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Frankenstein (novel/fil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Sweet Escape (Gwen Stefani’s albu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talicize Big Titles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nove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ship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la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fil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aint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sculpture or stat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draw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C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TV Ser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cartoon ser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n encyclopedi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magazin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newspap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amphle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2:04:39Z</dcterms:created>
  <dc:creator>macadmin</dc:creator>
  <dc:description/>
  <dc:language>en-US</dc:language>
  <cp:lastModifiedBy>macadmin</cp:lastModifiedBy>
  <dcterms:modified xsi:type="dcterms:W3CDTF">2009-11-11T14:51:46Z</dcterms:modified>
  <cp:revision>11</cp:revision>
  <dc:subject/>
  <dc:title>How to Punctuate Titles</dc:title>
</cp:coreProperties>
</file>