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142-08DB-4356-B512-18B35566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97A-23E5-4699-8049-44551452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265EF5-E4D5-41A0-84A1-E66158E7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25E66-1EB9-4ACF-A311-6E1BC03C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C2B2B-1D10-4E3E-81D7-B424A173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A2FB0-2865-4230-AA87-0B1EECE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6325C-252A-4F4F-BF35-C675D5D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66D74-8D33-452F-9992-DF0805FD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2FA8D-B2B7-42B8-AC37-C69D9290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01596-AC56-4A57-BF3C-3D507688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BFD35-3A98-4D19-883F-3B029473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564A9-0794-46B9-B628-AFC1474A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46B-0DD3-4E25-8E42-439142C5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C19AB-629F-480F-910B-6A7D5AA0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D7B21-3ECA-433D-A244-A03F937D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C5CDD-94CE-4AE9-8224-C601273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F1DB5-4FCF-42FF-BC75-19C6D15F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5F68B-7682-47EE-A2B3-E089FDD1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36193-41CA-462C-97AE-C74427C7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055A6-2DED-4CF0-B03C-26764CB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D5B2A-FF7D-4039-BF4E-C73CAF0F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44483-E87C-4CEE-9792-040789FF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87B02-61EB-46C8-8E5C-973FE0BD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168-480A-4C47-8537-6AD0E7DD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8924A-D178-4B89-93E5-A4329CBA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6842-286B-44F8-A98A-2025C103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B7B95-1016-4018-9968-506F1178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2D4D4-A027-4B09-9451-596C53D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FB6BB-01F9-4E3E-B836-63DE6BC3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A51E-CD80-4AF2-A18B-79992DE8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858B-B25C-4B08-9AEC-6D491BBC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EF048-6293-456B-9352-0DADCAD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23119-CD42-4B19-BCEF-5225AC5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FB74A-8306-4EA9-8547-BE97447D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2C2A-D449-40CC-90F8-BA5CADBE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8D9FA-8CAB-4AAD-ABEE-4F857464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C5960-47F9-4D36-B1BE-E17DB6F3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E678-ACC6-431D-9192-29A0A4CA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FA4CB-B2C0-46DE-9F24-48AB0F13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F04C6-A774-4385-B09E-E19DCCE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9CF0C-AFE5-4304-8451-C0B7B40D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4952A-1BC7-4B9A-8A6F-E9173682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691DB-06C4-4DA4-ADE4-A8D2773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422839-9FA5-4A4E-803D-7CCCCFAE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F9F75-D004-4B1C-9CC8-86B43958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ECB-DC84-4C35-942E-5BE9EDD5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8A814-5EC1-4E41-85DA-BD404880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F9B15-D1FD-4783-9F6B-4A7F43A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FF18BF-CC6E-4DF5-A521-6128375A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C6036-75B5-452C-AAF5-46C64786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1ABD0-5781-42C7-B40F-A5C8B8A1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6723-E6B9-4833-A3BD-A74C1AE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088-3621-4916-AEC6-C808DB86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959-4BCC-48A2-BF80-F7523600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5F48-16E0-408C-A08F-57B8BA38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A867-AD04-4199-AA83-1EDD0D4C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3F1-88FD-473E-BB15-C1D8BD3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C368-CAB6-4FE2-83DC-5594DD1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0EB3-3470-4AB9-91D4-D318AE34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3A2-D3B3-4AD5-BB99-BAA05CC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352-F66D-4EEA-A32A-B1206F8E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0E0E-3C5B-4968-9B87-E76A2464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B3D5-707D-4D8C-9C59-4CE3CE27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C5BC-1DD5-4179-8E63-486C7FC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A79CB-AD55-4B11-9408-AFE46897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C7D7C-FAD5-4DC6-9B27-4E45A305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3E57D-D2F7-40C5-B768-64FAA16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A95-0806-4108-A0D3-900CFD1D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9412-A3E3-46E5-8DD4-5691B827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0EE3-B816-44F2-AE5B-4F9B55F4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6585-5FDD-4AF0-BA7A-A832703C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6C373-560D-4DF6-94B2-7204B67A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51FF3-E1D1-4BB7-9CE2-E24B168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A983-E83C-4C0B-9CB6-2F4A8D25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5BE9-C7BC-41EA-948C-7A01CB9D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0985-4144-41DF-A327-B8185A6B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E7B0-A258-4F8B-9629-98EFAD21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FAF1-C8DA-4A8B-9748-75BCF46E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F26-F39B-4F21-9908-46AB0AC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4AA7C-818A-41E6-B520-14F911D8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DABA-1223-473F-A38B-D244B699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1A05-F758-4037-9C38-6880FD0E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8ACF-C0F3-4903-B482-A65A690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BB59-4CA8-46E8-822E-0114A22D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754A6-93B1-4E65-94E2-8595C32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0E2D-A766-4B0B-8468-6FFA5B9F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6530-DB13-45A4-A619-172AC62F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4874-44B8-40DE-BD72-BF4D2C40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3C5B4-73F8-4E6A-8E69-BC06650F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C76-697F-475E-BFB5-DE4B5851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659F8-C732-486B-AE9A-9333A17D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B53F-14EC-435B-92A0-E25FD14D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A0877-177E-486A-A728-D8BF66DB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90CF-2C2F-49BD-9C1F-6D580DD8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794F-97E3-4594-86C0-CD15EE39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A250-A569-4A2B-B8F2-CF165E76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3970-DC0B-4A99-9025-1051A75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8FDA-5037-45CD-B985-94F2F3AE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3272-F8D4-41B6-9333-267E6E4D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FDAA1-00C4-4475-B15B-C75646CD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4FB-97AC-4814-AADC-64542833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42962-D22C-480B-9F72-6E9DDB9F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300E3-A4BE-4A7F-889B-84701938D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09934-8CBB-45E3-BDC9-833B8F9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78EFE-EFB1-4EF4-9136-22440C69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A7D49-EBE7-4959-BC5B-1074A8AF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64B3C-C283-43A5-B2DD-282F8A22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FDCA-9949-49BC-85E0-CE47528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86DE-732F-4176-8B18-BA66E606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B72F-09C3-4E43-9EC3-43EF9AF5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E7DE-F04C-4B3D-A78B-DFCE28E3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B00-44AC-44C9-8254-D9BD942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8170-55CA-4DC2-9239-90E9774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F721-C7E8-4BEC-89CC-E7138DB9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63BEF-6722-47A9-B5A2-C4B908B8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AD691-BC66-4E54-B0E7-98ED6347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C8BD1-6227-4456-BEA0-F91BC157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C6B9-F1D8-4519-A19E-A5F5124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C99B-2819-4702-9B1A-55807F26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5B6C0-1ED2-4424-9ADD-A2F84F8F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BC2F-91B2-4A42-B2AF-48DE5365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CD943-2E79-43BE-9A89-8BBF3570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64D-7D4C-498F-8C7B-EDEC7D2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B370E-BD0F-4DD6-A2E8-D755576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6205-58AC-422F-B570-0279010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666B6-0DA9-47C2-8E5B-E8C069DD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8D62D-E842-40A1-BE08-D2C770FF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E11B-3C0C-40B8-A9A8-8373C4D4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2D02D-8300-48CD-AADB-AB2A6E58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CA423-5C93-4B5A-A813-FBE98C1A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6C536-8C98-475F-9A39-77AFCD3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908F6-6501-417B-BBEE-B06B8AEB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138F1-DB82-448D-9F37-462CB32B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ACD-F4F8-4D1F-81A0-94466B8F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44204-E68E-44A1-A517-FD7857B0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E02A1-BAEF-4E7B-914B-1328B9E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5331F-C9DE-4E2A-B753-6FA222DC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3CD8C-8273-4247-B887-B24F66B3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121F8-B468-4B17-A4F3-A94877B8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13DD7-FC8C-493A-93F1-ABBD69BB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64D30-5A60-4C47-8BE3-334C9450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56477-FE4C-42E3-8971-74852437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FF213-8578-496E-AD0C-37DA2827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AC813-1574-465A-96DA-E8E0859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C68D1-4D02-413E-A303-2168D25759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9C840-6350-43D9-BA84-5C815E6A62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A2809-45E5-48DF-BB8D-AB227C8FC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1BB5C-BE3C-4753-86F3-5736FCEA53D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27483-6488-45B9-8D1A-43D45C2F2C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EDBB4-C262-45C3-B839-D7AC0FEA53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60946-AE8E-45E5-8C1E-021CDB18D2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62539-CAF8-4DB6-8E04-1C2665220C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0703A-539D-401D-8582-F6DA8C87824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62BF9-1DE9-49D1-9E50-9C992ACF67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CF2D2-27DB-42E2-B4BA-DA9C529B3CF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05D6B-93F8-4FAD-B151-2C5E18123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EDBCC-4B3F-4074-8DCD-FA1B8F97BDD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77CCF-2FD5-4DBC-A7E2-89CC122673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035D2-F8E3-4F43-ADFD-13A5C14D2F6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7A4E9-5EB8-4D30-AFA9-24DD32652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20895-2B15-4945-9438-40FA819B1CB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AE0D0-E181-4C05-A30B-B16410D8E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7CC93-8AC8-45FD-8A05-6CDFCAC8359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8CFD2-0FD6-46E1-B27E-5D2076F48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F2BAF-8A31-4F13-BFCF-B024AF33F74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7E582-1C36-46DB-9FB3-D827A43805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9BB28-7C34-4439-AB17-D3E993052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20B0D-DA4F-4CBB-9D34-900E6F98336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YONGMIN AND JAS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How to Punctuate Title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nctuation marks for ‘Little Things’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ellow Wallpaper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unday Morning” by Wallace Steven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d Wheel barrow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unctuation marks for ‘Little Things’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o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hort sto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skit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ommercial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 individual episode in a TV series (like "The Soup Nazi" on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</a:rPr>
              <a:t>Seinfel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artoon episode, like "Trouble With Dog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chapt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n articl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 newspaper stor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About Capitalizat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u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ways capitalize the first and last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italize all nouns, pronouns, adjectives, verbs, adverbs, and subordinate conj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case all articles, coordinate conjunctions ("and", "or", "nor"), and prepositions regardless of length, when they are other than the first or last wo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case the "to" in an infin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nfusing Exampl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My Travels up Nova Scotia's South Shor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correct; "up" is functioning as a preposition and should be lowercase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ringing in the Sheav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(wrong; "in" is functioning as an adverb and should be capitalized)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taliciz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The Yellow Wallpap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The Rime of the Ancient Marin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Pirates of the Caribbean: The Black Pear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Obama Administration Pulls through with Health Care Pl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talicized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The Yellow Wallpap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The Rime of the Ancient Marin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c) Pirates of the Caribbean: The Black Pear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Obama Administration Pulls through with Health Care Pla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n Quotation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ns, Germs, and Ste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anderers of the Vall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iderma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a Li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ch title should be in Quotation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uns, Germs, and Ste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Wanderers of the Valle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piderman 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na Li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ick the title with capitalization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Heart of Darknes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Things They carri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ongebob Squarepant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‘Why is North Korea shutting out the South?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estion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ick the title with capitalization problem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Heart of Darknes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b)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The Things They carri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)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Spongebob Squarepants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) ‘Why is North Korea shutting out the South?’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talicize Big Titles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Heart of Darkness (novel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Frankenstein (novel/fil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The Sweet Escape (Gwen Stefani’s album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talicize Big Titles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novel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ship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la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film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aint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sculpture or statu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drawing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C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TV Ser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cartoon seri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n encyclopedi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magazin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newspap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 pamphle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2:04:39Z</dcterms:created>
  <dc:creator>macadmin</dc:creator>
  <dc:description/>
  <dc:language>en-US</dc:language>
  <cp:lastModifiedBy>macadmin</cp:lastModifiedBy>
  <dcterms:modified xsi:type="dcterms:W3CDTF">2009-11-11T14:51:46Z</dcterms:modified>
  <cp:revision>11</cp:revision>
  <dc:subject/>
  <dc:title>How to Punctuate Titles</dc:title>
</cp:coreProperties>
</file>