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EF63-6479-48A1-9216-F1B4A78D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2140-D1AB-43AA-B3F0-6DD704D5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A6AC-ABD6-4A29-A4E7-072FCBF8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F20A-D5CB-493F-B537-2A40F8A3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DFC46-749F-447D-B923-187BC536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0931C-D29A-4505-9820-0AFEF023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4371A-7807-4A62-8D0A-4F2E2F68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A2CC6-67BA-4730-9C87-D238A5E0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0C268-C6FE-4076-86EA-D6EA2673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D240B-191F-4E4A-AC45-26D50EAF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485AF-74A2-46C5-A25D-41156816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61BA-C6E8-4EF3-ABAB-B1FBCCAB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2E8A2-A50C-4BF2-A90F-5B489465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F9466-4F5F-4979-A0C2-48D47539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57ECA-B282-49B5-BD47-B003F88D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29851-3660-4F5D-B5DE-3B0A31B0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D9AEB-A06B-4D95-8B49-14574CDB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CDCD-0B81-425C-B94D-10773290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428E-3732-4076-8957-A1AEC2BE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6824-E55F-465A-93F9-64C0B0FF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40C2-1067-429C-A8BE-1759FF85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2094-0E3B-4D16-8D0F-CB68FC3A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A187-4C57-4525-879C-B33E7061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5A45-6E5E-4B11-AD68-779C2B68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6D74-F888-4581-BE3C-8D3317D3A9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FB09-A527-40E9-8455-954F1931E7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apyrus"/>
              </a:rPr>
              <a:t>Rime of the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Papyrus"/>
              </a:rPr>
              <a:t>Ancient Mariner</a:t>
            </a:r>
            <a:br>
              <a:rPr sz="4800"/>
            </a:br>
            <a:r>
              <a:rPr b="0" lang="en-US" sz="2400" spc="-1" strike="noStrike">
                <a:solidFill>
                  <a:srgbClr val="ffffff"/>
                </a:solidFill>
                <a:latin typeface="Papyrus"/>
              </a:rPr>
              <a:t>solo sound eff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Lindsay L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P Lit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as Gra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ga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8001000" cy="5486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`I fear thee, ancient Mariner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I fear thy skinny hand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thou art long, and lank, and brow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s is the ribbed sea-s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I fear thee and thy glittering ey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thy skinny hand, so brown.'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Fear not, fear not, thou Wedding-Guest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is body dropt not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5943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lone, alone, all, all alon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lone on a wide wide sea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never a saint took pity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My soul in ago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e many men, so beautiful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they all dead did li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a thousand thousand slimy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Lived on ; and so did 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5333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I looked upon the rotting se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drew my eyes away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I looked upon the rotting deck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there the dead men l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I looked to heaven, and tried to pray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But or ever a prayer had gush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 wicked whisper came, and m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My heart as dry as du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I closed my lids, and kept them clos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And the balls like pulses beat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For the sky and the sea, and the sea and the s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Lay like a load on my weary ey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And the dead were at my f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The cold sweat melted from their limb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Nor rot nor reek did they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The look with which they looked on 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Had never passed awa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8305920" cy="6477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 orphan's curse would drag to 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 spirit from on high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But oh ! more horrible than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Is the curse in a dead man's eye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Seven days, seven nights, I saw that curs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yet I could not d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e moving Moon went up the sk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no where did abid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Softly she was going up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a star or two beside-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229600" cy="6400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Her beams bemocked the sultry mai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Like April hoar-frost spread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But where the ship's huge shadow la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e charméd water burnt al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 still and awful 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Beyond the shadow of the ship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I watched the water-snake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ey moved in tracks of shining whit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when they reared, the elfish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Fell off in hoary flak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858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Within the shadow of the 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I watched their rich attir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Blue, glossy green, and velvet black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ey coiled and swam ; and every tr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Was a flash of golden fi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O happy living things ! no tong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eir beauty might declar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 spring of love gushed from my hear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I blessed them unawar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Sure my kind saint took pity on m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I blessed them unaw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e self-same moment I could pray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from my neck so f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e Albatross fell off, and s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Like lead into the s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7:17:33Z</dcterms:created>
  <dc:creator>Lindsay Lee</dc:creator>
  <dc:description/>
  <dc:language>en-US</dc:language>
  <cp:lastModifiedBy>Lindsay Lee</cp:lastModifiedBy>
  <dcterms:modified xsi:type="dcterms:W3CDTF">2009-11-04T23:41:10Z</dcterms:modified>
  <cp:revision>1</cp:revision>
  <dc:subject/>
  <dc:title>Rime of the  Ancient Mariner solo sound effect</dc:title>
</cp:coreProperties>
</file>