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85D-9E33-4D0A-BFA8-7F157C6E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021-F844-41E7-9BF6-B02FD18A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2AE-205E-4A9D-A53C-1A4C2F7F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6B1-BCB2-4B1F-97F6-77DBBCEB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9CC85-3C92-42C5-8A2D-91D6A496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F1EF-7154-4454-8684-04DA8214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8F9B-8016-410C-B40C-4B894C0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A4A3B-6B61-406D-8B8E-828D0BAA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E2041-4C06-4F79-9F2A-0AD78D18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2870-CADE-4F47-95FF-8573E9C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FE25-6C1E-44CC-9C88-03D8982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962-BD28-4CA7-BAF7-58B21089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DC9B-19D8-464E-895A-81641AB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C0444-5794-412E-9EDB-9FF435BE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C475C-03BC-42FC-B4E9-F21FBF0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C34B4-982C-45F1-BB89-276E40A8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EB408-0811-45F8-AA1E-375EFC7C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C14-39AF-47BA-B197-8CF2D144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E6DE-0EEC-461A-BB84-8A9811F6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7C6-6C19-4162-963C-61002794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ACE0-D36F-4765-AF58-1B2ABDF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746-41BD-4921-914D-4B712B6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E48-7BAC-4080-9D5B-26C01AF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47C-35FE-4636-BB6E-3AD30342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2ABD-2413-489D-B40C-C84D83CAA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AF9-5797-45BC-A0A5-33F0A31D0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Rime of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Ancient Mariner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Papyrus"/>
              </a:rPr>
              <a:t>solo sound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ndsay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P Lit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g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80010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`I fear thee, ancient Mariner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y skinny hand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ou art long, and lank, and brow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s is the ribbed sea-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ee and thy glittering ey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y skinny hand, so brown.'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ar not, fear not, thou Wedding-Gues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is body dropt no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, alone, all, all al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 on a wide wide se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ever a saint took pit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soul in ag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any men, so beautiful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y all dead did li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thousand thousand slimy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ved on ; and so did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33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s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drew my eyes aw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de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re the dead men 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to heaven, and tried to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r ever a prayer had gus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wicked whisper came, and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heart as dry as d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I closed my lids, and kept them clo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balls like pulses beat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For the sky and the sea, and the sea and the 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Lay like a load on my weary ey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dead were at my f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cold sweat melted from their limb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Nor rot nor reek did they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look with which they looked on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Had never passed aw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 orphan's curse would drag to 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irit from on high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h ! more horrible than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s the curse in a dead man's ey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even days, seven nights, I saw that cur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yet I could not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oving Moon went up the sk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o where did abid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oftly she was going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star or two beside-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er beams bemocked the sultry m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April hoar-frost spread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where the ship's huge shadow l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charméd water burnt al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till and awful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eyond the shadow of the shi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 water-snak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moved in tracks of shining wh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when they reared, the elfish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ll off in hoary flak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ithin the shadow of the 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ir rich atti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lue, glossy green, and velvet bla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coiled and swam ; and every 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as a flash of golden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O happy living things ! no to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ir beauty might decl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ring of love gushed from my hea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ure my kind saint took pity on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elf-same moment I could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from my neck so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Albatross fell off, and s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lead into the 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17:33Z</dcterms:created>
  <dc:creator>Lindsay Lee</dc:creator>
  <dc:description/>
  <dc:language>en-US</dc:language>
  <cp:lastModifiedBy>Lindsay Lee</cp:lastModifiedBy>
  <dcterms:modified xsi:type="dcterms:W3CDTF">2009-11-04T23:41:10Z</dcterms:modified>
  <cp:revision>1</cp:revision>
  <dc:subject/>
  <dc:title>Rime of the  Ancient Mariner solo sound effect</dc:title>
</cp:coreProperties>
</file>