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9B5-E488-459B-8E87-57D1E1EC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0E6-7713-4B0E-9092-B6990CB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DED-1E38-4EF4-A098-C25918A9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120-F974-49A5-9FB4-E2DF652F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71D66-DD44-4BE1-951D-25A7A85D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44ACC-BD74-400F-A83E-F00615C2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3512B-2A5E-421C-9D3D-78CA4372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CBEC3-709C-4B89-868E-AAABB709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3BA35-9CB1-4851-8D7C-65E61338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6925C-9788-423A-A256-04A3E91A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F9A99-68A5-4915-8FB6-D2779A9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E7A-7EBD-4FA2-986F-7DED8192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9B68B-3544-477F-A35A-5B1F95E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13926-C1BC-4DA6-B89C-D564871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35E76-0B6F-498C-B08B-B8074F1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7DF93-D6BB-4767-8A95-31BB4358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4034E-A091-416B-8D9B-E0F4E46B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383-3889-4167-8776-49D34384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63D-09CF-46D5-BE57-5FE57802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AAC-F4CA-41DE-9AE1-B61C54C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10C-B16B-4945-B040-932089FC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82D-6311-4382-AAF5-C7B0640B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B1F-6AA8-4A99-903F-9AF4437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FA8-6A34-43AB-B880-D4C1020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249F-1971-48F9-9564-202C6C089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829A-6680-4F19-AB8E-27A9B8543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Rime of th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Ancient Mariner</a:t>
            </a:r>
            <a:br>
              <a:rPr sz="4800"/>
            </a:br>
            <a:r>
              <a:rPr b="0" lang="en-US" sz="2400" spc="-1" strike="noStrike">
                <a:solidFill>
                  <a:srgbClr val="ffffff"/>
                </a:solidFill>
                <a:latin typeface="Papyrus"/>
              </a:rPr>
              <a:t>solo sound eff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ndsay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P Lit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ga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8001000" cy="5486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`I fear thee, ancient Mariner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fear thy skinny hand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ou art long, and lank, and brow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s is the ribbed sea-s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fear thee and thy glittering ey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y skinny hand, so brown.'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ear not, fear not, thou Wedding-Guest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is body dropt no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943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lone, alone, all, all alon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lone on a wide wide sea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never a saint took pity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y soul in ago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many men, so beautiful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ey all dead did li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a thousand thousand slimy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ved on ; and so did 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53337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upon the rotting se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drew my eyes aw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upon the rotting de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there the dead men l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looked to heaven, and tried to pr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or ever a prayer had gus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wicked whisper came, and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y heart as dry as du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I closed my lids, and kept them clos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And the balls like pulses beat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For the sky and the sea, and the sea and the s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Lay like a load on my weary ey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And the dead were at my fe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The cold sweat melted from their limb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Nor rot nor reek did they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The look with which they looked on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Had never passed aw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305920" cy="64771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 orphan's curse would drag to 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pirit from on high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oh ! more horrible than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s the curse in a dead man's ey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even days, seven nights, I saw that cur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yet I could not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moving Moon went up the sk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no where did abid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oftly she was going u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a star or two beside-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229600" cy="6400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er beams bemocked the sultry mai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ke April hoar-frost spread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ut where the ship's huge shadow lay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charméd water burnt al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till and awful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eyond the shadow of the ship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watched the water-snak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y moved in tracks of shining whi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when they reared, the elfish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ell off in hoary flak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858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ithin the shadow of the 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watched their rich atti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lue, glossy green, and velvet blac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y coiled and swam ; and every 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as a flash of golden f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O happy living things ! no ton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ir beauty might decla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 spring of love gushed from my hear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I blessed them unawa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ure my kind saint took pity on m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I blessed them una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elf-same moment I could pray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And from my neck so 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Albatross fell off, and s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Like lead into the s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7:17:33Z</dcterms:created>
  <dc:creator>Lindsay Lee</dc:creator>
  <dc:description/>
  <dc:language>en-US</dc:language>
  <cp:lastModifiedBy>Lindsay Lee</cp:lastModifiedBy>
  <dcterms:modified xsi:type="dcterms:W3CDTF">2009-11-04T23:41:10Z</dcterms:modified>
  <cp:revision>1</cp:revision>
  <dc:subject/>
  <dc:title>Rime of the  Ancient Mariner solo sound effect</dc:title>
</cp:coreProperties>
</file>